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ricochet.wav" ContentType="audio/x-wav"/>
  <Override PartName="/ppt/media/image11.wmf" ContentType="image/x-wmf"/>
  <Override PartName="/ppt/media/gunshot.wav" ContentType="audio/x-wav"/>
  <Override PartName="/ppt/media/image7.wmf" ContentType="image/x-wmf"/>
  <Override PartName="/ppt/media/image2.wmf" ContentType="image/x-wmf"/>
  <Override PartName="/ppt/media/image1.wmf" ContentType="image/x-wmf"/>
  <Override PartName="/ppt/media/projctor.wav" ContentType="audio/x-wav"/>
  <Override PartName="/ppt/media/image5.wmf" ContentType="image/x-wmf"/>
  <Override PartName="/ppt/media/image8.wmf" ContentType="image/x-wmf"/>
  <Override PartName="/ppt/media/image9.wmf" ContentType="image/x-wmf"/>
  <Override PartName="/ppt/media/image3.wmf" ContentType="image/x-wmf"/>
  <Override PartName="/ppt/media/image20.wmf" ContentType="image/x-wmf"/>
  <Override PartName="/ppt/media/CHIMES.WAV" ContentType="audio/x-wav"/>
  <Override PartName="/ppt/media/image18.wmf" ContentType="image/x-wmf"/>
  <Override PartName="/ppt/media/image4.wmf" ContentType="image/x-wmf"/>
  <Override PartName="/ppt/media/image21.wmf" ContentType="image/x-wmf"/>
  <Override PartName="/ppt/media/glass.wav" ContentType="audio/x-wav"/>
  <Override PartName="/ppt/media/image6.wmf" ContentType="image/x-wmf"/>
  <Override PartName="/ppt/media/WHOOSH.WAV" ContentType="audio/x-wav"/>
  <Override PartName="/ppt/media/image16.wmf" ContentType="image/x-wmf"/>
  <Override PartName="/ppt/media/image10.wmf" ContentType="image/x-wmf"/>
  <Override PartName="/ppt/media/image12.wmf" ContentType="image/x-wmf"/>
  <Override PartName="/ppt/media/EXPLODE.WAV" ContentType="audio/x-wav"/>
  <Override PartName="/ppt/media/image13.wmf" ContentType="image/x-wmf"/>
  <Override PartName="/ppt/media/image14.wmf" ContentType="image/x-wmf"/>
  <Override PartName="/ppt/media/LASER.WAV" ContentType="audio/x-wav"/>
  <Override PartName="/ppt/media/image17.wmf" ContentType="image/x-wmf"/>
  <Override PartName="/ppt/media/camera.wav" ContentType="audio/x-wav"/>
  <Override PartName="/ppt/media/image15.wmf" ContentType="image/x-wmf"/>
  <Override PartName="/ppt/media/driveby.wav" ContentType="audio/x-wav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50A-ECF3-47E8-ACF1-5E1A1D13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962-903B-4689-B202-9A3B8F06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98DF-CBAA-41E0-8D6D-9FC3F699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6684-56F4-4EE6-B657-16BD7548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1EDC-0861-49D7-9066-865824E9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8443-DE62-4077-9939-0ABBBADF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FED9-7586-4758-832B-2AAA7836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0422-87E6-42BB-964D-6B5D013A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D08F-9668-47AF-B34B-7817C79B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51A5-8CDF-4355-94C3-A7E13C80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A052-4C3B-4291-A34B-949D9F9D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E396-8ED4-488B-9602-51B5A656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AF90-F378-4DF8-B995-B7D45B7C3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7.wmf"/><Relationship Id="rId41" Type="http://schemas.openxmlformats.org/officeDocument/2006/relationships/audio" Target="../media/CHIMES.WAV"/><Relationship Id="rId42" Type="http://schemas.openxmlformats.org/officeDocument/2006/relationships/audio" Target="../media/camera.wav"/><Relationship Id="rId43" Type="http://schemas.openxmlformats.org/officeDocument/2006/relationships/audio" Target="../media/camera.wav"/><Relationship Id="rId44" Type="http://schemas.openxmlformats.org/officeDocument/2006/relationships/audio" Target="../media/driveby.wav"/><Relationship Id="rId45" Type="http://schemas.openxmlformats.org/officeDocument/2006/relationships/audio" Target="../media/driveby.wav"/><Relationship Id="rId46" Type="http://schemas.openxmlformats.org/officeDocument/2006/relationships/audio" Target="../media/LASER.WAV"/><Relationship Id="rId47" Type="http://schemas.openxmlformats.org/officeDocument/2006/relationships/audio" Target="../media/LASER.WAV"/><Relationship Id="rId48" Type="http://schemas.openxmlformats.org/officeDocument/2006/relationships/audio" Target="../media/gunshot.wav"/><Relationship Id="rId49" Type="http://schemas.openxmlformats.org/officeDocument/2006/relationships/audio" Target="../media/gunshot.wav"/><Relationship Id="rId50" Type="http://schemas.openxmlformats.org/officeDocument/2006/relationships/audio" Target="../media/gunshot.wav"/><Relationship Id="rId51" Type="http://schemas.openxmlformats.org/officeDocument/2006/relationships/audio" Target="../media/gunshot.wav"/><Relationship Id="rId52" Type="http://schemas.openxmlformats.org/officeDocument/2006/relationships/audio" Target="../media/gunshot.wav"/><Relationship Id="rId53" Type="http://schemas.openxmlformats.org/officeDocument/2006/relationships/audio" Target="../media/driveby.wav"/><Relationship Id="rId54" Type="http://schemas.openxmlformats.org/officeDocument/2006/relationships/audio" Target="../media/gunshot.wav"/><Relationship Id="rId55" Type="http://schemas.openxmlformats.org/officeDocument/2006/relationships/audio" Target="../media/ricochet.wav"/><Relationship Id="rId56" Type="http://schemas.openxmlformats.org/officeDocument/2006/relationships/audio" Target="../media/gunshot.wav"/><Relationship Id="rId57" Type="http://schemas.openxmlformats.org/officeDocument/2006/relationships/audio" Target="../media/ricochet.wav"/><Relationship Id="rId58" Type="http://schemas.openxmlformats.org/officeDocument/2006/relationships/audio" Target="../media/projctor.wav"/><Relationship Id="rId59" Type="http://schemas.openxmlformats.org/officeDocument/2006/relationships/audio" Target="../media/EXPLODE.WAV"/><Relationship Id="rId60" Type="http://schemas.openxmlformats.org/officeDocument/2006/relationships/audio" Target="../media/EXPLODE.WAV"/><Relationship Id="rId61" Type="http://schemas.openxmlformats.org/officeDocument/2006/relationships/audio" Target="../media/EXPLODE.WAV"/><Relationship Id="rId62" Type="http://schemas.openxmlformats.org/officeDocument/2006/relationships/audio" Target="../media/EXPLODE.WAV"/><Relationship Id="rId63" Type="http://schemas.openxmlformats.org/officeDocument/2006/relationships/audio" Target="../media/projctor.wav"/><Relationship Id="rId64" Type="http://schemas.openxmlformats.org/officeDocument/2006/relationships/audio" Target="../media/EXPLODE.WAV"/><Relationship Id="rId65" Type="http://schemas.openxmlformats.org/officeDocument/2006/relationships/audio" Target="../media/EXPLODE.WAV"/><Relationship Id="rId66" Type="http://schemas.openxmlformats.org/officeDocument/2006/relationships/audio" Target="../media/EXPLODE.WAV"/><Relationship Id="rId67" Type="http://schemas.openxmlformats.org/officeDocument/2006/relationships/audio" Target="../media/glass.wav"/><Relationship Id="rId68" Type="http://schemas.openxmlformats.org/officeDocument/2006/relationships/audio" Target="../media/EXPLODE.WAV"/><Relationship Id="rId69" Type="http://schemas.openxmlformats.org/officeDocument/2006/relationships/audio" Target="../media/EXPLODE.WAV"/><Relationship Id="rId70" Type="http://schemas.openxmlformats.org/officeDocument/2006/relationships/audio" Target="../media/EXPLODE.WAV"/><Relationship Id="rId71" Type="http://schemas.openxmlformats.org/officeDocument/2006/relationships/audio" Target="../media/EXPLODE.WAV"/><Relationship Id="rId72" Type="http://schemas.openxmlformats.org/officeDocument/2006/relationships/audio" Target="../media/EXPLODE.WAV"/><Relationship Id="rId73" Type="http://schemas.openxmlformats.org/officeDocument/2006/relationships/audio" Target="../media/EXPLODE.WAV"/><Relationship Id="rId74" Type="http://schemas.openxmlformats.org/officeDocument/2006/relationships/audio" Target="../media/LASER.WAV"/><Relationship Id="rId75" Type="http://schemas.openxmlformats.org/officeDocument/2006/relationships/audio" Target="../media/LASER.WAV"/><Relationship Id="rId76" Type="http://schemas.openxmlformats.org/officeDocument/2006/relationships/audio" Target="../media/driveby.wav"/><Relationship Id="rId77" Type="http://schemas.openxmlformats.org/officeDocument/2006/relationships/audio" Target="../media/EXPLODE.WAV"/><Relationship Id="rId78" Type="http://schemas.openxmlformats.org/officeDocument/2006/relationships/audio" Target="../media/EXPLODE.WAV"/><Relationship Id="rId79" Type="http://schemas.openxmlformats.org/officeDocument/2006/relationships/audio" Target="../media/EXPLODE.WAV"/><Relationship Id="rId8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audio" Target="../media/CHIMES.WAV"/><Relationship Id="rId10" Type="http://schemas.openxmlformats.org/officeDocument/2006/relationships/audio" Target="../media/driveby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EXPLODE.WAV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ell whether it is reasonable for the graph to be represented by a linear model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4038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2209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514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31240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3124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2514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4038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1981080"/>
            <a:ext cx="2971800" cy="2438640"/>
            <a:chOff x="685800" y="1981080"/>
            <a:chExt cx="2971800" cy="2438640"/>
          </a:xfrm>
        </p:grpSpPr>
        <p:grpSp>
          <p:nvGrpSpPr>
            <p:cNvPr id="51" name=""/>
            <p:cNvGrpSpPr/>
            <p:nvPr/>
          </p:nvGrpSpPr>
          <p:grpSpPr>
            <a:xfrm>
              <a:off x="1219320" y="1981080"/>
              <a:ext cx="2438280" cy="2438640"/>
              <a:chOff x="1219320" y="1981080"/>
              <a:chExt cx="2438280" cy="2438640"/>
            </a:xfrm>
          </p:grpSpPr>
          <p:sp>
            <p:nvSpPr>
              <p:cNvPr id="52" name=""/>
              <p:cNvSpPr/>
              <p:nvPr/>
            </p:nvSpPr>
            <p:spPr>
              <a:xfrm>
                <a:off x="1219320" y="198108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219320" y="228600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219320" y="259092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289548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19320" y="320040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19320" y="350532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219320" y="380988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219320" y="411480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219320" y="1981080"/>
                <a:ext cx="30456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2388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2880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133720" y="1981080"/>
                <a:ext cx="30456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43828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74320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48120" y="1981080"/>
                <a:ext cx="30456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5268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9320" y="3200400"/>
              <a:ext cx="2438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38280" y="1981080"/>
              <a:ext cx="0" cy="24386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5800" y="1981080"/>
              <a:ext cx="685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 txBox="1"/>
          <p:nvPr/>
        </p:nvSpPr>
        <p:spPr>
          <a:xfrm>
            <a:off x="4648320" y="2209680"/>
            <a:ext cx="210492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ot a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inear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od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09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ell whether it is reasonable for the graph to be represented by a linear model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3124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2895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2514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3581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3505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85800" y="1981080"/>
            <a:ext cx="2971800" cy="2438640"/>
            <a:chOff x="685800" y="1981080"/>
            <a:chExt cx="2971800" cy="2438640"/>
          </a:xfrm>
        </p:grpSpPr>
        <p:grpSp>
          <p:nvGrpSpPr>
            <p:cNvPr id="81" name=""/>
            <p:cNvGrpSpPr/>
            <p:nvPr/>
          </p:nvGrpSpPr>
          <p:grpSpPr>
            <a:xfrm>
              <a:off x="1219320" y="1981080"/>
              <a:ext cx="2438280" cy="2438640"/>
              <a:chOff x="1219320" y="1981080"/>
              <a:chExt cx="2438280" cy="2438640"/>
            </a:xfrm>
          </p:grpSpPr>
          <p:sp>
            <p:nvSpPr>
              <p:cNvPr id="82" name=""/>
              <p:cNvSpPr/>
              <p:nvPr/>
            </p:nvSpPr>
            <p:spPr>
              <a:xfrm>
                <a:off x="1219320" y="198108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219320" y="228600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219320" y="259092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219320" y="289548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19320" y="320040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219320" y="350532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19320" y="380988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219320" y="411480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219320" y="1981080"/>
                <a:ext cx="30456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52388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82880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133720" y="1981080"/>
                <a:ext cx="30456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43828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4320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8120" y="1981080"/>
                <a:ext cx="30456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35268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1219320" y="3200400"/>
              <a:ext cx="2438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38280" y="1981080"/>
              <a:ext cx="0" cy="24386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" y="1981080"/>
              <a:ext cx="685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 txBox="1"/>
          <p:nvPr/>
        </p:nvSpPr>
        <p:spPr>
          <a:xfrm>
            <a:off x="4495680" y="2209680"/>
            <a:ext cx="2362320" cy="19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inear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odel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838080" y="3124080"/>
            <a:ext cx="3276720" cy="3281400"/>
            <a:chOff x="838080" y="3124080"/>
            <a:chExt cx="3276720" cy="3281400"/>
          </a:xfrm>
        </p:grpSpPr>
        <p:grpSp>
          <p:nvGrpSpPr>
            <p:cNvPr id="103" name=""/>
            <p:cNvGrpSpPr/>
            <p:nvPr/>
          </p:nvGrpSpPr>
          <p:grpSpPr>
            <a:xfrm>
              <a:off x="838080" y="3129120"/>
              <a:ext cx="3276720" cy="3276360"/>
              <a:chOff x="838080" y="3129120"/>
              <a:chExt cx="3276720" cy="3276360"/>
            </a:xfrm>
          </p:grpSpPr>
          <p:sp>
            <p:nvSpPr>
              <p:cNvPr id="104" name=""/>
              <p:cNvSpPr/>
              <p:nvPr/>
            </p:nvSpPr>
            <p:spPr>
              <a:xfrm>
                <a:off x="838080" y="394812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38080" y="422100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38080" y="449424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38080" y="476712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38080" y="504036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38080" y="531324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38080" y="558648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38080" y="585936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38080" y="613260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38080" y="3675240"/>
                <a:ext cx="273060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38080" y="3129120"/>
                <a:ext cx="27324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11320" y="31291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384200" y="36752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57440" y="31291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30320" y="36752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03560" y="31291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76440" y="36752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749680" y="31291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22560" y="3675240"/>
                <a:ext cx="27288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95440" y="3129120"/>
                <a:ext cx="27324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568680" y="31291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41560" y="36752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38080" y="340200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38080" y="312912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 flipV="1">
              <a:off x="1920960" y="312408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3. Use the data given i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. Make a scatter plot of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b. Write a linear model for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80880" y="1752480"/>
            <a:ext cx="8763120" cy="1143000"/>
            <a:chOff x="380880" y="1752480"/>
            <a:chExt cx="8763120" cy="1143000"/>
          </a:xfrm>
        </p:grpSpPr>
        <p:sp>
          <p:nvSpPr>
            <p:cNvPr id="132" name=""/>
            <p:cNvSpPr/>
            <p:nvPr/>
          </p:nvSpPr>
          <p:spPr>
            <a:xfrm>
              <a:off x="380880" y="1752480"/>
              <a:ext cx="8686800" cy="11430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880" y="2286000"/>
              <a:ext cx="8686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95680" y="17524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95680" y="17524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0080" y="17524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10080" y="17524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24480" y="17524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24480" y="17524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38880" y="17524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38880" y="17524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153280" y="17524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53280" y="17524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067680" y="17524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1752480"/>
              <a:ext cx="876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ear                                      1990  1992   1994  1996  199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880" y="2362320"/>
              <a:ext cx="868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xpenditures(in millions)     50     210     350    490    65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 flipH="1">
            <a:off x="746280" y="2997360"/>
            <a:ext cx="79200" cy="3382920"/>
          </a:xfrm>
          <a:custGeom>
            <a:avLst/>
            <a:gdLst/>
            <a:ahLst/>
            <a:rect l="l" t="t" r="r" b="b"/>
            <a:pathLst>
              <a:path w="1" h="2291">
                <a:moveTo>
                  <a:pt x="0" y="229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838080" y="6324480"/>
            <a:ext cx="3276720" cy="76320"/>
          </a:xfrm>
          <a:custGeom>
            <a:avLst/>
            <a:gdLst/>
            <a:ahLst/>
            <a:rect l="l" t="t" r="r" b="b"/>
            <a:pathLst>
              <a:path w="2368" h="1">
                <a:moveTo>
                  <a:pt x="0" y="0"/>
                </a:moveTo>
                <a:lnTo>
                  <a:pt x="2368" y="0"/>
                </a:ln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6095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5181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4419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6576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2895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6400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   92   94   96   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2971800"/>
            <a:ext cx="762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066320" y="2895480"/>
            <a:ext cx="2590920" cy="35053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5029200"/>
            <a:ext cx="609480" cy="4572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4267080"/>
            <a:ext cx="609480" cy="45720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1828800"/>
            <a:ext cx="762120" cy="9907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00800" y="1828800"/>
            <a:ext cx="762120" cy="9907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094280" y="4191120"/>
                <a:ext cx="504972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2" name=""/>
          <p:cNvGraphicFramePr/>
          <p:nvPr/>
        </p:nvGraphicFramePr>
        <p:xfrm>
          <a:off x="4952880" y="4267080"/>
          <a:ext cx="107820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4267080"/>
                    <a:ext cx="1078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553080" y="4267080"/>
          <a:ext cx="77148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4267080"/>
                    <a:ext cx="771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23200" y="4267080"/>
          <a:ext cx="82080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23200" y="4267080"/>
                    <a:ext cx="8208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114800" y="4800600"/>
          <a:ext cx="252108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4800600"/>
                    <a:ext cx="25210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400800" y="4800600"/>
          <a:ext cx="113364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4800600"/>
                    <a:ext cx="1133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7394400" y="4800600"/>
          <a:ext cx="174960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94400" y="4800600"/>
                    <a:ext cx="1749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963960" y="2971800"/>
          <a:ext cx="2901960" cy="1347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63960" y="2971800"/>
                    <a:ext cx="290196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767120" y="3124080"/>
          <a:ext cx="922320" cy="52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67120" y="3124080"/>
                    <a:ext cx="9223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835600" y="3124080"/>
          <a:ext cx="920880" cy="522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35600" y="3124080"/>
                    <a:ext cx="920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900680" y="3733920"/>
          <a:ext cx="701640" cy="522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00680" y="3733920"/>
                    <a:ext cx="70164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942160" y="3733920"/>
          <a:ext cx="704880" cy="522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2160" y="3733920"/>
                    <a:ext cx="7048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6783480" y="2971800"/>
          <a:ext cx="1361880" cy="1479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783480" y="2971800"/>
                    <a:ext cx="136188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7053120" y="3124080"/>
          <a:ext cx="1229040" cy="522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53120" y="3124080"/>
                    <a:ext cx="12290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7194600" y="3733920"/>
          <a:ext cx="747720" cy="52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194600" y="3733920"/>
                    <a:ext cx="7477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8024760" y="3352680"/>
          <a:ext cx="1096920" cy="5223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8024760" y="3352680"/>
                    <a:ext cx="10969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7689960" y="5257800"/>
          <a:ext cx="1454040" cy="614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689960" y="5257800"/>
                    <a:ext cx="14540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648320" y="5257800"/>
          <a:ext cx="1454040" cy="6127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648320" y="5257800"/>
                    <a:ext cx="14540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724280" y="5943600"/>
            <a:ext cx="4191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486400" y="6095880"/>
          <a:ext cx="514440" cy="7621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486400" y="6095880"/>
                    <a:ext cx="514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943600" y="5943600"/>
          <a:ext cx="1644480" cy="6094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943600" y="5943600"/>
                    <a:ext cx="1644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7396200" y="5943600"/>
          <a:ext cx="1747800" cy="6094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396200" y="5943600"/>
                    <a:ext cx="1747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609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4. Use the model found in Exercise 3 to estimate the expenditures in 199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981080" y="1523880"/>
          <a:ext cx="38577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38577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676520" y="2133720"/>
                <a:ext cx="46306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23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8" name=""/>
          <p:cNvGraphicFramePr/>
          <p:nvPr/>
        </p:nvGraphicFramePr>
        <p:xfrm>
          <a:off x="3429000" y="2209680"/>
          <a:ext cx="771480" cy="7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209680"/>
                    <a:ext cx="7714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47920" y="3048120"/>
          <a:ext cx="4167000" cy="88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048120"/>
                    <a:ext cx="416700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286000" y="3962520"/>
          <a:ext cx="2438280" cy="104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3962520"/>
                    <a:ext cx="243828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08T13:37:39Z</dcterms:modified>
  <cp:revision>218</cp:revision>
  <dc:subject/>
  <dc:title>No Slide Title</dc:title>
</cp:coreProperties>
</file>